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5BB-A1A1-4CD1-AA5E-12547CD8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C40-8AA6-4153-AAB6-6ECD2066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C36-880F-4F5C-AB56-58FCF982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171-6FB9-497D-B1A8-EE25675F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972-70F2-41A7-95C1-6C1CECF7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986-D151-4318-806A-C448B89F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6B0-BFD7-422E-8384-41800431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64A-020E-40F7-A4A8-BA344D3C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FE7-E583-4AC7-993E-AC93CF10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17C-5FB0-434D-BA3C-4CC36E5D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00E-FDB9-4544-9FF4-4A858D25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B53-F1FF-4E69-93EB-391EC78F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60" y="49320"/>
            <a:ext cx="9021600" cy="398880"/>
          </a:xfrm>
          <a:prstGeom prst="rect">
            <a:avLst/>
          </a:prstGeom>
          <a:noFill/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章  视频显示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0" name="框a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框a2" descr=""/>
            <p:cNvPicPr/>
            <p:nvPr/>
          </p:nvPicPr>
          <p:blipFill>
            <a:blip r:embed="rId3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框a3" descr=""/>
            <p:cNvPicPr/>
            <p:nvPr/>
          </p:nvPicPr>
          <p:blipFill>
            <a:blip r:embed="rId4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框a4" descr=""/>
            <p:cNvPicPr/>
            <p:nvPr/>
          </p:nvPicPr>
          <p:blipFill>
            <a:blip r:embed="rId5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麒靈" descr=""/>
          <p:cNvPicPr/>
          <p:nvPr/>
        </p:nvPicPr>
        <p:blipFill>
          <a:blip r:embed="rId6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055D-A5E6-43BF-BDE0-4555536CDB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36.xml"/><Relationship Id="rId10" Type="http://schemas.openxmlformats.org/officeDocument/2006/relationships/slide" Target="slide36.xml"/><Relationship Id="rId11" Type="http://schemas.openxmlformats.org/officeDocument/2006/relationships/slide" Target="slide36.xml"/><Relationship Id="rId12" Type="http://schemas.openxmlformats.org/officeDocument/2006/relationships/slide" Target="slide65.xml"/><Relationship Id="rId13" Type="http://schemas.openxmlformats.org/officeDocument/2006/relationships/slide" Target="slide65.xml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视频显示接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6.1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显示系统的组成及其工作原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6.2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 action="ppaction://hlinksldjump"/>
              </a:rPr>
              <a:t>显示器的类型及性能参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5" action="ppaction://hlinksldjump"/>
              </a:rPr>
              <a:t>6.3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6" action="ppaction://hlinksldjump"/>
              </a:rPr>
              <a:t>视频标准及视频接口的基本类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7" action="ppaction://hlinksldjump"/>
              </a:rPr>
              <a:t>6.4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8" action="ppaction://hlinksldjump"/>
              </a:rPr>
              <a:t>视频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9" action="ppaction://hlinksldjump"/>
              </a:rPr>
              <a:t>6.5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0" action="ppaction://hlinksldjump"/>
              </a:rPr>
              <a:t>VGA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1" action="ppaction://hlinksldjump"/>
              </a:rPr>
              <a:t>视频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2" action="ppaction://hlinksldjump"/>
              </a:rPr>
              <a:t>6.6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3" action="ppaction://hlinksldjump"/>
              </a:rPr>
              <a:t>几种典型的显示卡参数与现代显卡中的新技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9564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467480" cy="499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047320" y="6095880"/>
            <a:ext cx="48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3  VG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示方式数据线定义及其接口插头外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76520" y="5562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显示器数据接插件信号配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47920" y="990720"/>
          <a:ext cx="6324480" cy="42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990720"/>
                    <a:ext cx="6324480" cy="42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2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关显示器性能的几个参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676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列出了几种常见显示器的性能参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2438280"/>
            <a:ext cx="457200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像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点时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分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水平扫描频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垂直扫描频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28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2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几种常见显示器的性能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76520"/>
          <a:ext cx="8153280" cy="244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76520"/>
                    <a:ext cx="815328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频标准及视频接口的基本类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4760" y="228564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3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控制适配器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3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他几种适配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3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于视频显示的几个概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3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控制适配器标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色显示适配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D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显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×2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行字符，每个字符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×1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阵，分辨率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20×35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不能兼容图形方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彩色图形适配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可兼容图形与字符两种显示方式，字符采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×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增强型图形适配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它能兼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所有功能。字符显示采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×1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739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视频图形阵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能兼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字符显示采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×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超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它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完全兼容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种颜色甚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4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真彩色。对应产品有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，这些新的显示标准都向下兼容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3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他几种适配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120" y="2361960"/>
            <a:ext cx="6324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G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大力神图形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B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专用的图形适配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524/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甚高分辨率图形适配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X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扩充的图形阵列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3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于视频显示的几个概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76964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像素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ixe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：指显示屏幕上颜色和亮度可以被控制的最小单元，即一个圆点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分辨率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esolutio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：水平方向显示的像素数与垂直方向显示像素数的乘积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视频模式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ideo mo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：分为文本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ex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和图形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Graphic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两种类型。文本模式下屏幕被划分为矩形的字符位置——屏幕的横向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列字符；图形模式下屏幕被分为由许多很小的点（即像素）构成的点阵，使用这些点可以在屏幕上构成任何图案（包括字符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章学习目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显示系统的结构组成和工作原理及参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视频方式及视频接口的基本类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各类视频方式的原理及主要性能参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视频接口电路的组成及其工作原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常见视频接口适配器的主要性能参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了解现代微机系统中视频显示接口卡中使用的新技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1295280"/>
            <a:ext cx="7086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决定单色显示器分辨率的因素有两个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行频和视频输出的频带宽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影响彩色显示器显示分辨率的要素有三个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：是荧光屏上两个相邻像素之间的距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：影响彩显分辨率的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R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聚焦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三：频带宽度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频方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90920" y="2590920"/>
            <a:ext cx="4876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4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视频方式组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4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本方式与变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4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形显示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4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两种显示比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66680" y="1143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系统的各组成部分：显示器、显示适配器、刷新缓存和视频服务程序都应符合该类系统的要求和参数。视频方式就是用来描述显示系统中各部分的标准参数，如下所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95280" y="3276720"/>
          <a:ext cx="670572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67057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4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频方式组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162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方式（视频方式号）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类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颜色                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分辨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字符矩阵        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刷新缓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809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常见三种显示适配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X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视频方式分别如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90920" y="59436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3  VG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视频显示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838080"/>
          <a:ext cx="640080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640080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121932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4  Super VGA/8514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的图形视频方式（注：所有向下兼容的视频方式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2895480"/>
          <a:ext cx="7657920" cy="18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765792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71800" y="5486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.5  XG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视频方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2209680"/>
          <a:ext cx="8001000" cy="30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8001000" cy="30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4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本方式与变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般显示电路含有两部分，即刷新缓存和显示变换。当适配器处于字符显示模式时，字符显示代码保存在字符发生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O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。当需要调用时，从刷新缓存依次取出字符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字节，作为调用显示字符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O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地址，然后由显示变换时钟一个点一个点地串行输出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52120" y="190476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字符发生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RO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刷新缓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示变换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1143000"/>
            <a:ext cx="838224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路的基本功能是：在点时钟时序的控制下，一边读出点阵信息，一边向显示器输出串行点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变换电路的基本原理：首先，时钟发生器将点阵时钟进行分频，依次将屏幕所需字符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取出；再在字符行时钟作用下，从字符发生器中取出对应点阵字节序列；最后由串行输出部件组合点阵与属性，将并行转换为串行点流从适配器输出。至此，一个字符显示结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系统的组成及其工作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22093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6.1.1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显示系统的组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6.1.2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 action="ppaction://hlinksldjump"/>
              </a:rPr>
              <a:t>显示系统的工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0" y="54100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符点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7180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26744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981080" y="60199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符显示变换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576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77320" cy="4133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4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图形显示方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形方式又称为全方位寻址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A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显示方式。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，介绍图形视频显示方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形显示方式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 13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模式）的工作原理框图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33720" y="5486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6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形方式的典型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523880" y="1676160"/>
            <a:ext cx="5867280" cy="2361960"/>
            <a:chOff x="1523880" y="1676160"/>
            <a:chExt cx="5867280" cy="2361960"/>
          </a:xfrm>
        </p:grpSpPr>
        <p:sp>
          <p:nvSpPr>
            <p:cNvPr id="178" name=""/>
            <p:cNvSpPr/>
            <p:nvPr/>
          </p:nvSpPr>
          <p:spPr>
            <a:xfrm>
              <a:off x="5772600" y="1676520"/>
              <a:ext cx="1618560" cy="23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7368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97636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17832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38064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58296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78564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98760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18992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7368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97636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17832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38064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58296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784200" y="22669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8760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18992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77260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974920" y="22669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7724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956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58224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78420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98652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18920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77260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974920" y="25621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17724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7956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58224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784200" y="2562120"/>
              <a:ext cx="20232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98652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18920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77260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974920" y="28576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17724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37956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8224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784200" y="28576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98652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18920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77260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974920" y="31528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17724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37956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58224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784200" y="31528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98652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18920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77260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974920" y="34480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17724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37956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58224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784200" y="34480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98652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18920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7260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974920" y="37422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17724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37956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58224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783120" y="3742920"/>
              <a:ext cx="20232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698652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18920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72600" y="226692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72600" y="2857680"/>
              <a:ext cx="161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72600" y="344808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82240" y="1676520"/>
              <a:ext cx="0" cy="236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47080" y="1676520"/>
              <a:ext cx="1618560" cy="23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54816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75048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95280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15512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35744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55976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76208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96440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54816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75048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5280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15512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35744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455868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76208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96440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547080" y="22669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74940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95172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15404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56360" y="22669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55868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76100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96332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547080" y="25621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940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95172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15404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356360" y="25621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558680" y="2562120"/>
              <a:ext cx="20232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76100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96332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547080" y="28576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374940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95172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15404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356360" y="28576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55868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76100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96332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547080" y="31528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74940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95172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15404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356360" y="31528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55868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76100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496332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547080" y="34480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74940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95172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15404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356360" y="34480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55868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76100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96332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547080" y="37422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74940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95172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15404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356360" y="37422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557600" y="3742920"/>
              <a:ext cx="20196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76100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96332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47080" y="226692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47080" y="285768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47080" y="344808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56360" y="1676520"/>
              <a:ext cx="0" cy="23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77260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23880" y="1676520"/>
              <a:ext cx="1618560" cy="23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52460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72728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2960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13156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33388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53656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73888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94084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52460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72728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192960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13156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33388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53548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73888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94084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52388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172620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928160" y="22669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13048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33316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53548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737440" y="22669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94012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52388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72620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928160" y="25621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13048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33316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535480" y="2562120"/>
              <a:ext cx="20196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2737440" y="25621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294012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52388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72620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928160" y="28576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13048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33316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53548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737440" y="28576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94012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52388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72620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928160" y="31528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13048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33316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53548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737440" y="31528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94012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52388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72620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928160" y="34480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3048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33316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53548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737440" y="34480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94012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52388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2620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928160" y="37422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13048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33316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534040" y="3742920"/>
              <a:ext cx="20232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2737440" y="37422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94012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3880" y="226692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3880" y="285768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3880" y="344808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33160" y="1676520"/>
              <a:ext cx="0" cy="23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52388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1720" y="1676520"/>
              <a:ext cx="0" cy="23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61000" y="1676520"/>
              <a:ext cx="0" cy="23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523880" y="44337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色像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44337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色像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44337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色像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81080" y="57150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7  VGA 13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式（图形显示方式）工作原理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336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248160" cy="4559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4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种显示比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处理和访问的最小单位不同：访问的是刷新缓冲寄存器的字节；图形方式则按像素在刷新缓存中字节所在的位去访问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处理和访问的属性数据不同：文本方式字符的属性作用于串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并转换器件上；图形方式则将属性数据作用于颜色编码器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存储容量不同：文本显示方式的缓存容量固定不变，而图形显示方式的容量不定，要由点与颜色的关系决定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5  VG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频接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666520" y="251424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5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视频适配器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5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适配器的性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5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端口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5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频适配器结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为一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的视频适配器的外形图，其组成由图形处理控制芯片、显示缓存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RA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I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芯片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数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模拟转换控制器）及输出接口插座组成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905120" y="4952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8  V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视频适配器外形结构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098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38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980720" y="990360"/>
            <a:ext cx="5334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视频控制芯片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CRT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0720" y="1828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RT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显示芯片）按其芯片档次及所支持的显示方式可分为（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）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312408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彩色图形显示芯片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代显示芯片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代显示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代显示芯片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四代显示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1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系统的组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完整的微型计算机显示系统由显示控制适配器和显示器（即监视器）组成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6095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微机显示系统组成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632448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133720" y="58672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9  VGA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视频适配器示意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191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239240" cy="42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133360" y="7621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刷新缓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D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5272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763120" cy="4710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286000" y="59436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0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装入式字符发生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581280" y="1523520"/>
            <a:ext cx="228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D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43000" y="27432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于供用户执行调色板选择功能调用，还具有转换显示数据的作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2895120" y="15998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VGA B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19320" y="2743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GA BIO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除了包含新视频方式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IO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调用程序外，还有字符阵列码信息。在视频系统中，它是主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显示系统设备的重要接口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048120" y="1066320"/>
            <a:ext cx="3962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总线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209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适配器要接在微机系统主板上与主板进行数据传输。与主板连接的接口主要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I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E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几种。常见的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总线的显示适配器总线带宽速度快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5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配器的性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28440" y="17521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视频图形矩阵的主要性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25909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垂直分辨率达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上，同时向下兼容；刷新缓存位图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，每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4K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颜色调色板增加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6K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上；字符集可装入的模块增加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×8K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4K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增加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视频显示转换器软硬件；采用软件控制比仅靠硬件管理具有更大的灵活性、适应性和可扩展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981080" y="12193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VGA BI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主要服务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24382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直接控制功能，可作视频方式设置、显示输出的设置等；交互功能、文本方式、图形方式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颜色查询表、字符发生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5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端口寄存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寄存器主要由外部寄存器、序列发生器寄存器、图形控制器寄存器、属性控制器寄存器和视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寄存器组成。这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种寄存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，每种寄存器又由多个端口寄存组成。每个寄存器的作用是按位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i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实现的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523880" y="51814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视频控制器及寄存器组成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3344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971800" y="9907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外部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9051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外部寄存器组共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端口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寄存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6858000" cy="23083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2819520" y="25146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6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外部寄存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1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系统的工作原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示系统的工作原理，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。显示接口卡从主机接受显示输出信号，经过处理和变换然后输出。显示器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示卡的输出端口接收红、蓝、绿三色模拟信号及行同步信号和场同步信号，并对它们进行不同的处理后送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R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这样才可以在屏幕上显示出字符和图像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666520" y="91440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序列发生器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3720" y="19051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7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序列发生器寄存器地址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066680" y="2666880"/>
          <a:ext cx="69422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66880"/>
                    <a:ext cx="69422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60020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符映像模块选择示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27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04920" y="1563840"/>
            <a:ext cx="807696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209320" y="76176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图形控制器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28800" y="129528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如表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9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21337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8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图形控制器寄存器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47920" y="2895480"/>
          <a:ext cx="670536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895480"/>
                    <a:ext cx="67053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971800" y="14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9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功能选择字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219320" y="2286000"/>
          <a:ext cx="67816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67816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752480" y="14479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0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显示存储器主机中的地址映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371600" y="2590920"/>
          <a:ext cx="6781680" cy="27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90920"/>
                    <a:ext cx="6781680" cy="27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2590920" y="106668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属性控制器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2120" y="1981080"/>
            <a:ext cx="75438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属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属性有单色属性和彩色属性字节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及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，其属性定义如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及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属性端口寄存器属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如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颜色寄存器的分组方式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；允许颜色位图寄存器作用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；视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系统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514600" y="1219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1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单色属性字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295280" y="2286000"/>
          <a:ext cx="6858000" cy="33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6858000" cy="33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819520" y="1143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2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彩色属性字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828800" y="2133720"/>
          <a:ext cx="5791320" cy="36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579132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523880" y="56386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3  VG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属性字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0988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883908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743200" y="1371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3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属性寄存器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143000" y="2057400"/>
          <a:ext cx="678168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78168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00200" y="57150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2  VG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系统工作原理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1948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534520" cy="407664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743200" y="41911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4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调色板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295280" y="2057400"/>
          <a:ext cx="66438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66438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981080" y="57150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15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颜色寄存器的分组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64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39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362320" y="5943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色板单元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6236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0592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981080" y="56386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7  D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组成示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430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304920" y="1538280"/>
            <a:ext cx="838188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514600" y="14479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4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219320" y="2286000"/>
          <a:ext cx="667548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667548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6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种典型的显示卡参数与现代显卡中的新技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095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6.1  TVGA90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6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接口电路中的新技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6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几种常见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133720" y="838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15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几代显示适配器的主要参数和特征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371600" y="1905120"/>
          <a:ext cx="6781680" cy="45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678168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6.1  TVGA9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VGA90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卡的主要性能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2590920"/>
            <a:ext cx="739152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用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8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8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86P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兼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ercule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D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示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支持逐行扫描和隔行扫描显示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ulti-Syn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S/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示器兼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2Hz VES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标准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0×6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分辨率下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295280" y="1828800"/>
            <a:ext cx="68580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Hz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场频下，显示器的分辨率支持可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24×76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扩展的文本显示模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列文本模式，支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列文本模式，支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3763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71600" y="5562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8  TVGA9000 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彩色图形适配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3763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924680" cy="45036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797904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器的类型及性能参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220968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6.2.1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显示器的类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6.2.2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 action="ppaction://hlinksldjump"/>
              </a:rPr>
              <a:t>显示器的工作原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5" action="ppaction://hlinksldjump"/>
              </a:rPr>
              <a:t>6.2.3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6" action="ppaction://hlinksldjump"/>
              </a:rPr>
              <a:t>有关显示器性能的几个参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7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6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接口电路中的新技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09680" y="1828800"/>
            <a:ext cx="5029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多芯片集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增加数据通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更快的内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存带宽改进技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可升级架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多显示器支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97904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6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种常见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G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卡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几种显卡分别如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vidia Reference GeForce2 MX 32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vidia Reference GeForce2 MX 400 64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ercules 3D Prophet 4000XT Kyro 32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ercules 3D Prophet 4500 Kyro II 64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TI Radeon VE 32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47242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几种显卡的主要性能参数如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2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2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371600" y="10666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6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几种常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显卡的主要性能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990720" y="2209680"/>
          <a:ext cx="777240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7724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638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6553080" cy="48769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7091280" y="990720"/>
            <a:ext cx="1033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9  Nvidi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GeForce2 MX 2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示适配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447920" y="52578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20  ST MicroKyro 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yro I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显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432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why2001060602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594360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93364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why2001060603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638680" cy="472428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2346480" y="6019920"/>
            <a:ext cx="42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21  ATI Radeon V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97904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THANK YOU VERY MUCH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本章到此结束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谢谢您的光临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>
            <a:hlinkClick r:id="rId1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" action="ppaction://hlinkshowjump?jump=endshow"/>
          </p:cNvPr>
          <p:cNvSpPr/>
          <p:nvPr/>
        </p:nvSpPr>
        <p:spPr>
          <a:xfrm>
            <a:off x="569304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结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2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器的类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按显示屏的结构分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R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阴极射线管式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L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液晶式显示器；按色彩形式分为单色显示器和彩色显示器；按视频信号的输入形式分为数字式和模拟式显示器；按分辨率分为高分辨率和低分辨率显示器；按显示方式分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D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X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几种方式。现在基本上使用的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R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L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2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器的工作原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接口卡与显示器之间的数据联接采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根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根数据线连接。并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型插头与显示接口卡进行物理连接。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方式数据线及其定义情况和接口插座的外形图，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显示器接插件信号配置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0:58:39Z</dcterms:created>
  <dc:creator>liwu</dc:creator>
  <dc:description/>
  <dc:language>en-US</dc:language>
  <cp:lastModifiedBy>新人电脑</cp:lastModifiedBy>
  <dcterms:modified xsi:type="dcterms:W3CDTF">2002-01-25T03:18:56Z</dcterms:modified>
  <cp:revision>49</cp:revision>
  <dc:subject/>
  <dc:title>PowerPoint 演示文稿</dc:title>
</cp:coreProperties>
</file>